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4893"/>
        <c:axId val="42359039"/>
      </c:barChart>
      <c:catAx>
        <c:axId val="26104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9039"/>
        <c:crosses val="autoZero"/>
        <c:auto val="1"/>
        <c:lblAlgn val="ctr"/>
        <c:lblOffset val="100"/>
        <c:noMultiLvlLbl val="0"/>
      </c:catAx>
      <c:valAx>
        <c:axId val="42359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4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E84-D113-4AD1-AE9F-FF45E642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81B-E2D1-4313-8EE7-88BFB1B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6EE-90BD-4E13-B8E8-B9E639BF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EA9-0633-4D56-ADBB-D6D48615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9BB-DADE-4F22-828F-020BACC9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487-4761-4BC9-9479-0F5B989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652-B0CD-4B7B-BBE4-99027AF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B64-281C-4496-96CE-523C74A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EEE-FBD1-499F-9F1A-2EA8134A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5B6-C243-4047-A1DD-A9BD4FF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CE6-4110-4F06-B17A-C1ADCB9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93C-EDC8-482F-9CA4-293EC9E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672A3-B841-4FA6-A0F2-4FAF90F5AF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